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DA5-C841-4C70-A662-920298E9C71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6E44-36F7-4E2C-BF68-64D9AF75FE9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944-7D87-4CE5-BDEA-B77A9B18A4E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35A4-62FC-4207-933B-DD78861B169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334-8763-4692-B776-BD64FDB4F01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319-DF55-4F53-A588-E0476C2EDBD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3FA-F7CD-4C67-82C2-10802726DA5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718-6DD1-45A5-8A1B-BFD30D5AE57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66C-2627-4A22-BE6F-5CD5E596F12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363-B785-4138-8F5F-AE4C1F2F62F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CFD-DDF4-43E7-B8DE-E70ECDB2B44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C5F4-BE95-4D54-BA4F-441065F9BBC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727-5438-4F08-965E-399BC03DA54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12C2-70DF-40CB-8593-44939B838A6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86A1-7BB9-494C-8E6F-9464723D875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27B-4666-4B39-8955-3DB53354A9A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864-FE18-4606-866C-7471495E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4F8-1571-4451-BC04-9EDCE9E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8E2-39DE-4018-B268-A9BB1434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04-8137-44BF-BAFF-3CA19512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F15-9195-4DE2-8BE2-72D87E82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BEE-D9F1-41B5-A4EE-426105A5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0BD-A350-4B6D-AE52-CEF338C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B470-2C8B-4D84-BF0F-331A061D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8AC5-6A95-40B3-91D9-749FAC9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E634-5E1E-4184-B844-D32AEE7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9C3C-716C-4404-B32E-3F43464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512-5BF0-4D08-AB7D-5D598E2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0FA-5646-4410-BDED-DE02510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B7AC-FD89-4DB8-9FE6-E21F79A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B45-C0DD-4F41-BDD3-400D736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19F2-7BB6-41AF-8E96-0012843E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AFBE-B69D-4F38-A13F-D9AFA972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A49-7FC0-4111-B561-E55B520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461-F92D-45B7-A878-963971E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134-494A-438D-8260-5FCAB30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B85-4AF3-4155-B49B-02AF4CB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23F-9E1E-4B60-8827-C955795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29D-C424-4CCA-A0BA-EE859BF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51B-C8E2-4E22-9897-302263E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D7C-D4A2-48B9-83BF-41E94584DE30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Pytheas\Desktop\Working stuff\CerOrganic\logo-tr.gif"/>
          <p:cNvPicPr/>
          <p:nvPr/>
        </p:nvPicPr>
        <p:blipFill>
          <a:blip r:embed="rId2"/>
          <a:stretch/>
        </p:blipFill>
        <p:spPr>
          <a:xfrm>
            <a:off x="7026120" y="27000"/>
            <a:ext cx="207648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LP-logo.jpg"/>
          <p:cNvPicPr/>
          <p:nvPr/>
        </p:nvPicPr>
        <p:blipFill>
          <a:blip r:embed="rId3"/>
          <a:stretch/>
        </p:blipFill>
        <p:spPr>
          <a:xfrm>
            <a:off x="0" y="189000"/>
            <a:ext cx="1857240" cy="65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935-7709-40D6-BEF4-6CCE7513501F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Organic Training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- Θέση περιεχομένου"/>
          <p:cNvSpPr/>
          <p:nvPr/>
        </p:nvSpPr>
        <p:spPr>
          <a:xfrm>
            <a:off x="826920" y="4786200"/>
            <a:ext cx="7498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4387-LLP-1-2009-1-GR-LEONARDO-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funded by the European Un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ough the Leonardo da Vinci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- Τίτλος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Module C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350028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Unit CXXX.X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 Conclu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.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summary in bullet points of the most important themes of the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86240" y="6500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.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680" y="1643040"/>
            <a:ext cx="8424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mandatory reference material that is provided  or available from ope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mentary bibliograph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non-compulsary  reading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pages /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links to relevant / interesting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i. Evaluation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714320"/>
            <a:ext cx="84247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unit contributes to Assignment X (X = 1 o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any means for the assessment of learning, provided for use during this unit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dicate any conne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243036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re information on unit CXXX.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please provide a contact emai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143680" y="6488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150012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tor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ims &amp;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rning outcomes &amp;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hodology &amp;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in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i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on of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492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CXXX.X,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04836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 name,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. Tut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7000"/>
            <a:ext cx="8424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clude a short CV, focusing on experience, skills and competences related to the un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00680" y="64882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. Aims &amp;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aims &amp; objectives of this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572080" y="6488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i. Learning outcomes &amp;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learning outcomes &amp; skill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29160" y="6500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v. Methodology &amp;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methodology and contents of the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786200" y="64882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Main p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. 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glossary of any unfamiliar terms introduced in this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92912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i. 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sert the slides of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presentation 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43280" y="6500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8:35:36Z</dcterms:created>
  <dc:creator>ΜΠΑΜΠΗΣ</dc:creator>
  <dc:description/>
  <dc:language>en-US</dc:language>
  <cp:lastModifiedBy>koubouris</cp:lastModifiedBy>
  <dcterms:modified xsi:type="dcterms:W3CDTF">2011-03-31T11:39:57Z</dcterms:modified>
  <cp:revision>114</cp:revision>
  <dc:subject/>
  <dc:title>Organic.BalkaNet</dc:title>
</cp:coreProperties>
</file>